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80D-8D5A-49A8-BDA2-236FF34B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8F4-9F5B-4EBE-B5DB-DCB6F335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CEE-2E4C-446D-9381-191BEEB1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D99-E5DD-4C5D-8753-73EE6CBB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C73-7136-46CE-93E4-C3320041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7F2-A90C-4FE3-9A9E-BFDAEC0C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FCE-33EC-4609-8240-86C52D18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549-5BA3-4AC8-B2B3-0803DB54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55C-4513-4FE6-AB1A-35106771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75C-877B-4A99-893D-6E706ED2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FB6-2064-4FF8-8521-1A88EB7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196-1BD0-459C-B529-F25D6D69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10AD-5B99-47C6-B432-0A92C101F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04:46Z</dcterms:created>
  <dc:creator>Patrick J. Mooney</dc:creator>
  <dc:description/>
  <dc:language>en-US</dc:language>
  <cp:lastModifiedBy>Patrick J. Mooney</cp:lastModifiedBy>
  <dcterms:modified xsi:type="dcterms:W3CDTF">2010-03-30T14:05:51Z</dcterms:modified>
  <cp:revision>1</cp:revision>
  <dc:subject/>
  <dc:title>Slide 1</dc:title>
</cp:coreProperties>
</file>